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1EDC-300B-4796-A7F0-04C83024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7557-8B52-4F0D-A012-E8A14E66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352-BE81-4614-A00D-7C7BFB64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70F-C03A-4726-A451-EFE93182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D1A-DE9B-4404-B12C-79DCD33F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ECF-7690-47F1-BC72-E90779B4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6F19-797C-4392-9475-F7E04FDC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30FE-0B8A-4FCA-8214-2D4F434E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E71A-1DE2-408E-8AD7-8FA3E3F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F90E-14EB-4AF9-985E-5733994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3182-B4A7-4A30-A1DB-E4F72669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F68-0B94-4EB7-B7A9-7151BB74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8BC2-2E83-4AA6-80E8-4BB5653D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B49-766D-46E5-9DE9-92FE5C25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D4A0-3457-4D8B-BBE3-013A48BC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CF61-681D-4D0B-84F2-CFF0BC1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62F1-A709-4758-B621-0E70F457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FB06-9DAB-4165-AA7F-CD202B57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AE59-AA16-4DBB-82A9-A586ABDA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FE9-920B-4B30-A6BB-D326F35B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D4F-FE3C-4BA0-BFFA-1683E75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795-408B-458D-B5F0-90DACB71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60E-54F6-45E6-8E38-FC97E978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8B5-142C-40AE-8CEA-4AC65FB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E37-58F1-44E0-9C38-ED382E1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D3A-1C45-4B43-8A35-288442A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CE9D-F635-4F65-9393-C475BB68A1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9FC2-FBAD-4A84-88B7-598980D16A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076960" cy="13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ски поступци у офталмологиј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: вежб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 Сунчица Срећ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27484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Приказ случа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ац стар 4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еда лоптом левог ока на фудб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чна и породична општа и офталмолошка анамнеза без знач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али се на бол, замагљење вида на левом 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 да му смета свет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ађен је комплетан офталмолошки 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Клинички преглед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OD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0 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       VOS: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n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D:14 mmHg     TOS:12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LOD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целини уред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LOS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емија вежњ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ови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исутна  ексуд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P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тан фиб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ружна централна, у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очиво прови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бље делове је теже саглед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Трауматски ирити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имптоми: бол, фотофобија,е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ксудација упредњој очној ком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бично низак ИОП, ређе пови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жа зеница која се спорије ши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д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ерилимбална инј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www.gp-training.net/protocol/ophthalmology/redeye/iritis.jpg"/>
          <p:cNvPicPr/>
          <p:nvPr/>
        </p:nvPicPr>
        <p:blipFill>
          <a:blip r:embed="rId1"/>
          <a:stretch/>
        </p:blipFill>
        <p:spPr>
          <a:xfrm>
            <a:off x="5257800" y="1523880"/>
            <a:ext cx="36194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линички преглед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идријаза и преглед периферије мрежњаче како би се превенирала ретинална аб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ониоскопија како би се искључила повреда коморног угла и секундарни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Терапија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о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окално кортикостеридне 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/c Atropin+ Dex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овне контроле до санациј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Intravitreal Injection Technique: a primer"/>
          <p:cNvPicPr/>
          <p:nvPr/>
        </p:nvPicPr>
        <p:blipFill>
          <a:blip r:embed="rId1"/>
          <a:srcRect l="27830" t="28139" r="22091" b="29649"/>
          <a:stretch/>
        </p:blipFill>
        <p:spPr>
          <a:xfrm>
            <a:off x="6019920" y="2286000"/>
            <a:ext cx="2743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Приказ случа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киња стара 59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еда десног ока у кући есен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чна и породочна општа и офталмолошка анамнеза без знач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рана у надлежном дому здравља и упућена у КЦ ради даљег ле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Клинички преглед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OD:0.5 n.c.          VOS: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ŠLOD: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емија вежњ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ефект епитела који се бој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Fl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без ексуд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ружна центр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очиво прови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бље делове је теже сагле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ŠLOS: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целини уред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Хемијске повреде о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хтевају неодложни трет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ухватају све хемијске супстанце из свакодневног живота:киселине, базе, цемент,малтер, растварачи, детерџенти, лепил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пирање ока 0,9%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Ringer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-ов раствор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sol Acidi borici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колико нису доступни, испирати в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жљиво уклањање свих партикула у форниксу и испод капка, влажним памучним тупф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Eye Irrigation - Primary Care Medicine - Irvine, CA - Advantage Plus  Medical Center"/>
          <p:cNvPicPr/>
          <p:nvPr/>
        </p:nvPicPr>
        <p:blipFill>
          <a:blip r:embed="rId1"/>
          <a:srcRect l="35939" t="0" r="32034" b="40053"/>
          <a:stretch/>
        </p:blipFill>
        <p:spPr>
          <a:xfrm>
            <a:off x="5486400" y="167652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1972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кални губитак еп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је присутна значајна исхемија перилимбалног пре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прекида циркулације у конјунктивалним и еписклералним крвним 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sightnation.com/files/30351_006.JPG"/>
          <p:cNvPicPr/>
          <p:nvPr/>
        </p:nvPicPr>
        <p:blipFill>
          <a:blip r:embed="rId1"/>
          <a:srcRect l="24041" t="10204" r="10414" b="16326"/>
          <a:stretch/>
        </p:blipFill>
        <p:spPr>
          <a:xfrm>
            <a:off x="45720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sightnation.com/files/30351_010.JPG"/>
          <p:cNvPicPr/>
          <p:nvPr/>
        </p:nvPicPr>
        <p:blipFill>
          <a:blip r:embed="rId2"/>
          <a:srcRect l="16191" t="7999" r="10203" b="14002"/>
          <a:stretch/>
        </p:blipFill>
        <p:spPr>
          <a:xfrm>
            <a:off x="457200" y="4038480"/>
            <a:ext cx="36543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Даља терап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о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окално антибиотске капи и маст уве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штачке су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налгетици ора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 пажљиво пратити до потпуне реепителизације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е на рожњ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Апликовање капи ма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ompounding Corner Pharmacy: Vancomycin Eye Drops | Compounding Corner  Pharmacy, Inc."/>
          <p:cNvPicPr/>
          <p:nvPr/>
        </p:nvPicPr>
        <p:blipFill>
          <a:blip r:embed="rId1"/>
          <a:stretch/>
        </p:blipFill>
        <p:spPr>
          <a:xfrm>
            <a:off x="304920" y="1828800"/>
            <a:ext cx="4114800" cy="274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erapija 2"/>
          <p:cNvPicPr/>
          <p:nvPr/>
        </p:nvPicPr>
        <p:blipFill>
          <a:blip r:embed="rId2"/>
          <a:srcRect l="2091" t="5400" r="5593" b="14939"/>
          <a:stretch/>
        </p:blipFill>
        <p:spPr>
          <a:xfrm>
            <a:off x="5105520" y="1828800"/>
            <a:ext cx="356220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609480" y="541008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мак између укапавања мора бити 5-10 минута како би се избегао wash out еф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рапијски поступц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о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ји се користе у лечењу очних болисти апликује се у облику: капи, масти, субконјунктивалних и интравитреалних ињ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 је заштићени бројним механизмима: трептање, сузни филм, хемато-окларна бариј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ђе се примењује системска и перор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енетрација л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ћина лекова у око доспева преко рожњаче, мање од 2% лека у око доспева преко вежња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нетрација лека је сразмерна концентрацији лека који је у контакту са рожњаом и дужини конт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ални волумен конјунктивалног сакуса је 7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н укапавања лека износи 30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 већине капи износи 30-75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шак се дренира у лакримални систем или прелива преко ивице кап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ољно је апликовати једну кап л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7:19:42Z</dcterms:created>
  <dc:creator>Sunshine</dc:creator>
  <dc:description/>
  <dc:language>en-US</dc:language>
  <cp:lastModifiedBy>Windows User</cp:lastModifiedBy>
  <dcterms:modified xsi:type="dcterms:W3CDTF">2020-09-26T16:58:17Z</dcterms:modified>
  <cp:revision>117</cp:revision>
  <dc:subject/>
  <dc:title>Терапијски поступци у офталмологији Наследна обољења ока:  кариограм, микрогенетска дијагностика, превенција, терапија прогноза</dc:title>
</cp:coreProperties>
</file>